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500-2BC2-4E9C-9126-421C83A898D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69CF-78D5-4E0D-83B2-BDF5157090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5A3B-4BCD-4C53-A9A3-461A1DC91D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CB0-4FFC-44EE-8F2F-2F313A89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5DE-5CA0-4A57-84A0-BC56CA0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C4F-66AF-4BDB-A8A1-F7E3E200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B2C-F508-4664-A5EA-544155C4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6E15-BB08-4B80-946D-2625DA83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A2A-305D-4215-B07C-EE1E30F3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95C-A33E-4CAB-BCFF-AF3699A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8676-D0A6-4746-B806-31384A4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2B53-D4ED-4013-B2FF-04A6F1F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6461-C92C-4FA9-856A-902E4F1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F26-94ED-4049-9FE5-386D61EA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1CC-1B59-4245-8887-7B787CEB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EBFE-D6FD-47A0-A49D-97B445A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870F-4BF8-4252-9048-14F98E0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F04A-4A25-43E4-8A50-1CCF733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BFC-AF87-4DC0-B2B4-BC539D21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04A0-B257-484D-BDA0-D557459B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E8DB-775A-4B25-B97F-BECC6956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E3A3-FA85-4FCD-95FC-BB0EC115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4CF2-C09F-4623-A514-B0BE6412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1CDF-1110-43AB-B376-DDCF127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9F04-3063-4293-A1AF-4D59CE6C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8B6-ED3C-4F95-88A9-28E6373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5B64-7AF5-4DF0-B036-89A0BE9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5590-1374-44F0-9E76-1685C61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B04B-3766-4DA1-B1E4-947CA98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B1CB-708F-474D-A078-C273227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9C6F-128C-472E-8ED0-9175000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C5EF-6094-42F9-95C0-0DB4C1D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8899-AD96-46B8-B559-2D324D69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872B-774C-4284-B567-3EB95A9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048B-0F44-4C30-B87D-0F98D78C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102F-B9F7-4B02-B1B8-372C3DA6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FBA-A272-486D-B36C-1B42E7B2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E838-4E06-40F6-BCEB-8F600E2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6816-66DC-4808-9872-338BA656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255B-74F7-4920-A59D-7BF4340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E4982-3C84-4C34-92D9-5CCE9EB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5B26-176E-464D-88AA-DB61315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6274-7EB7-4AEA-A5DA-9909940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01F5-34DA-4B25-91F4-9713865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B35C-A899-441F-B9C0-CF5DA053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CDC9-DF94-46FD-9D61-191703FC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73E1-15A8-4BF7-8E81-33AE7EE4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979-ACA3-479F-843C-EEF2C15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C37B-165E-4ED2-8B0F-04E611F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B3540-14E2-4197-BDF6-43E9D351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4FD4-3920-4E50-BDF5-A1A0000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70933-1DF1-4049-824D-5D17BD92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3BE5-DF86-4FA9-B09F-B8807EB1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75750-72A5-4822-984F-3B48DFF5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7084-646A-4A39-B835-F38F1BB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4F39-F72C-4407-8EC5-B67A1BE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DA98-02DB-46E4-AA77-A621230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4414-1981-4F27-8DAF-74969B55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869-C359-4A6E-91B3-312E640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04F8-DCCA-436A-BCE5-320E6587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8B1AF-41AC-47D4-A2AE-9BD56E1C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25DFD-F9F9-47F1-9EF1-16AE791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D1048-27ED-4E2D-B595-5DB55DB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C005-10BD-4DFA-85FE-09F28461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BAC0-BAC3-4D2A-BE01-B344E67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880A-5118-445C-8691-4688BF73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037B6-BFD3-4039-8B1E-255E145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E3495-1291-4984-9182-836A87EC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5EC0-347D-4911-AB6B-F9E7820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F3F-D120-434B-AE75-0149EC50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69F0-E6FE-49C9-86FF-E2324A0B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9B10C-A9DA-4259-AD2C-069A6E52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9E1B-0EF2-4AF9-9506-4D45F493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A78-BD31-4501-9A72-0478F0E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87C-5BC8-486E-A8D4-575B11D8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08DA-0465-4FB4-B92A-A670A7399E4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649-9511-4B29-BEF9-0121DB08723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D9AB-0750-4910-858D-07E8C76842F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E7F-4F06-4172-88BA-91A85744870F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2882-9D1D-45A6-BA8C-634647598DF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B8D-F553-4FC0-95BA-4EC72CC46E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82D-21DC-4C5C-B33D-486F508CAC8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8E0E-FB93-437C-A01B-2DC13796EB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34BD-EA30-49BF-8BB0-64DAE67C100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D73-697D-46C3-BF94-1A0832FB80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7144-DED9-4066-890F-EDF593203E2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265C-42BB-4F4C-A0E0-8AFE9BBE29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gost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53880" y="1413000"/>
            <a:ext cx="1078236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79440" y="1484280"/>
            <a:ext cx="107568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1075356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1055520" y="1527120"/>
            <a:ext cx="10080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gosto (2016 e 2017) – Em R$ milhões de Agost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1055520" y="1557360"/>
            <a:ext cx="10080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Agost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1055520" y="1700280"/>
            <a:ext cx="10080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gost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055520" y="1484280"/>
            <a:ext cx="1008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9-21T20:41:11Z</dcterms:modified>
  <cp:revision>433</cp:revision>
  <dc:subject/>
  <dc:title>Demografia</dc:title>
</cp:coreProperties>
</file>